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EB1-D12C-4FBA-BBB9-7F3ECE01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746-5635-41AA-AD3F-4C3FA16C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B27-044D-49E9-B97C-25ABEB76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8A7-B3F1-4657-A9AF-3050CD91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14F7-3F0E-4D61-B559-9BC1C4AC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8634-9091-46B8-AC71-E41D666C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A64B-D9B1-4203-8AF7-3AE05F12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AA4B-EC64-4B18-9EBF-F54BD75D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4665-1244-4F5C-A97F-EA3376AE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CFFE-271C-4F76-A67B-027824F1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8AE5-6AAE-49E0-A6DA-A54CF45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4EA-9B31-4CF7-9517-8C0677FC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B45A-8C31-4F70-93E3-92F71D12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DA1B-4485-4344-BC74-3387400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E5DF-1DC2-46A6-94C1-A321BFB5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4729-2507-451F-A3B6-92F060A4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D6FD-BF4C-4532-AC7F-5B696D89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E8A-5248-4AEB-9126-3F81DA84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18E-B4FA-4825-AC19-09C42A7A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016-EBF4-4035-A3D6-EB516540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846-BCB9-4CFC-BD51-2C50EA6E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09B-835D-4FAE-A03D-7432AA6F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AE7-EEBD-4FA9-AB12-9C82FD89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289-51A1-4DCF-A808-8375D490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4DBB-4E95-4001-8A5F-A7BBEE55C5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7713-4089-4A21-989C-1347A2267C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veloping and Communicating a Clear Consistent 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Principle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Commercia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building good relations with the company’s various publics by obtaining favorable publicity, building up a good corporate image, and handling or heading off unfavorable rumors, stories, and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s rel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nso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School or Non-Profit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building good relations with the company’s various publics by obtaining favorable publicity, building up a good corporate image, and handling or heading off unfavorable rumors, stories, and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s rel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nso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jor Promotio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 sel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personal presentation by the firm’s sales force for the purpose of making sales and building customer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es 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 sh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commercia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 sel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personal presentation by the firm’s sales force for the purpose of making sales and building customer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es 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 sh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school or non-profit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 sel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personal presentation by the firm’s sales force for the purpose of making sales and building customer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es 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 sh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jor Promotio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marke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making direct connections with carefully targeted individual consumers to both obtain an immediate response and cultivate lasting customer relationships—by using direct mail, telephone, direct-response television, e-mail, and the Internet to communicate directly with specific consu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o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commercia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marke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making direct connections with carefully targeted individual consumers to both obtain an immediate response and cultivate lasting customer relationships—by using direct mail, telephone, direct-response television, e-mail, and the Internet to communicate directly with specific consu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o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school or non-profit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marke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making direct connections with carefully targeted individual consumers to both obtain an immediate response and cultivate lasting customer relationships—by using direct mail, telephone, direct-response television, e-mail, and the Internet to communicate directly with specific consu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o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Integrated Marketing Commun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Shifting Marketing Communications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broadcasting and more narrowca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tisers are shifting budgets away from network television to more targeted cost-effective, interactive, and engaging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Integrated Marketing Commun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Need for Integrated Marketing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rated marketing commun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integration by the company of its communication channels to deliver a clear, consistent, and compelling message about the organization and its br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promotion m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pecific blend o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tising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relation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selling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-marketing too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t are used to persuasively communicate value and build customer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7760160" y="63817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View of the Communications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Communications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View of the Communications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party sending the message to another pa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process of putting thought into symbolic for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et of symbols the sender 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View of the Communications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communications channels through which the message moves from sender to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o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rocess by which the receiver assigns meaning to the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arty receiving the message sent by another pa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View of the Communications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reaction of the receiver after being exposed to th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art of the receiver’s response communicated back to the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unplanned static or distortion during the communication process, which results in the receiver’s getting a different message than the one the sender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View of the Communications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6657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message to be effective, the sender’s encoding must mesh with the receiver’s decoding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messages consist of words and other symbols that are familiar to the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66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target aud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the communication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the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the messag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dentifying the Target Aud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ing commun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gins with a clear target audience to answer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ill be sa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t will be sa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t will be sa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t will be sa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will say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6970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rmining the Communications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ers seek a purchase response that results from a consumer decision-making process that includes the stages of buyer read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6970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rmining the Communications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ors need to  seek a response that results from a consumer decision-making process that includes the stages of read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ar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y In (Partnersh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signing a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A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ous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ta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jor Promotio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erti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y paid form of non-personal presentation and promotion of ideas, goods, or services by an identified spon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do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signing a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ign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cludes the message content an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content—what to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structure and content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a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66576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signing a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ssage con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appeal or theme that will produce the desired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 app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otional app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al app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66657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signing a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tional appe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lates to the audience’s self-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motional appe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attempt to stir up positive or negative emotions to motivate a purc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al appe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directed at the audience’s sense of right and pro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76312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tional appe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motional appe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al app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80880" y="2819520"/>
          <a:ext cx="8228880" cy="3472920"/>
        </p:xfrm>
        <a:graphic>
          <a:graphicData uri="http://schemas.openxmlformats.org/drawingml/2006/table">
            <a:tbl>
              <a:tblPr/>
              <a:tblGrid>
                <a:gridCol w="2742840"/>
                <a:gridCol w="2743200"/>
                <a:gridCol w="2742840"/>
              </a:tblGrid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mer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665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oosing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sonal commun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effective because it allows personal addressing and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personal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ny (School Department/Sch Com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expe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 of mou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665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oosing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ny/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people/Educ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expe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 advo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ying guides/School Rank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 of mou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6657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oosing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inion lea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people within a reference group who, because of special skills, knowledge, personality, or other characteristics, exerts social influence on othe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66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oosing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zz marke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volves cultivating opinion leaders and getting them to spread information about a product or service to others in their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teps in Developing Effective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66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-Personal Communication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-personal commun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media that carry messages without personal contact or feedback— including major media, atmospheres, and events—that affect the buyer direc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tting the Total Promotion     Budget and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tting the Total Promotion Bud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fordable budget method- how much can you aff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centage-of-sales method-don’t spend more than on book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etitive-parity method-what have others d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-and-task method-how much to get it d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Give Commercia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erti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y paid form of non-personal presentation and promotion of ideas, goods, or services by an identified spon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do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tting the Total Promotion     Budget and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aping the Overall Promotion M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Nature of Each Promotion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s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es promo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tting the Total Promotion     Budget and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66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aping the Overall Promotion M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Nature of Each Promotion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ery believable form of promotion that includes new stories, features, sponsorships, and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marke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non-public, immediate, customized, and interactive promotional tool that includes direct mail, catalogs, telemarketing, and online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we cant use public fund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tting the Total Promotion     Budget and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66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motion Mix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sh strateg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pushing the product to the consumers by inducing channel members to carry the product and promote it to final consu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B2B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ur case we “sell” to special interest groups (PTA eg) and they communicate with larger aud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tting the Total Promotion     Budget and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66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motion Mix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ll strateg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when the producer directs its marketing activities toward the final consumers to induce them to buy the product and create demand from channel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6080" indent="-49608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B2C compan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ur case we go directly to each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756920" y="638172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Give School or Non-Profit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erti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y paid form of non-personal presentation and promotion of ideas, goods, or services by an identified spon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do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jor Promotio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les promo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hort-term incentives to encourage the purchase or sale of a product o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commercia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les promo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hort-term incentives to encourage the purchase or sale of a product o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lease provide school or non-profit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les promo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short-term incentives to encourage the purchase or sale of a product o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romotion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jor Promotion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building good relations with the company’s various publics by obtaining favorable publicity, building up a good corporate image, and handling or heading off unfavorable rumors, stories, and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s rel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nso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758000" y="6381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4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7:55:14Z</dcterms:created>
  <dc:creator>Ron</dc:creator>
  <dc:description/>
  <dc:language>en-US</dc:language>
  <cp:lastModifiedBy>Thomas DiPaola</cp:lastModifiedBy>
  <dcterms:modified xsi:type="dcterms:W3CDTF">2009-12-03T22:40:49Z</dcterms:modified>
  <cp:revision>51</cp:revision>
  <dc:subject/>
  <dc:title>Slide 1</dc:title>
</cp:coreProperties>
</file>